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302-94DA-438D-B860-E293F64E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A16-B816-495E-84CB-DC3D21AE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698-1C0D-4F75-A0EB-CCF63587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AFE-A671-493C-8082-8A43D877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0E15-149C-4902-94D4-0CC72207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20E5-4FD4-4A72-9B3D-3C3613C6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B763-74BC-4B25-9287-10B4BFED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A740-9AFE-4CA7-9008-3B0F43D8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231C-358A-4C23-AC57-3629A000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4498-B46F-4FDC-A546-48CCCEF5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9587-60A7-4A36-8899-EBF26F33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B1B-A44B-4032-97DF-A0C9E31B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B004-1E3E-4FFD-BC92-E65167CB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6D3E-0D29-472E-9013-7E84DBB3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49D2-E536-4CDD-A340-4DCA3385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154B-16FB-4F86-9A7B-A0189660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D520-33F6-45E1-9AA4-C604CC65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0B3D-1865-41F7-B558-AD31D9DE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8DA2-C3F0-42B9-8CB2-681AFFA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C994-C24E-4325-98F6-F8A64A3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A713-8AA5-404E-934A-9712E2FA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DD79-6C98-4573-9C04-B4B62C3A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F63-2B4A-4245-BFFF-DB8C9280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A5F5-2FB1-4FF5-B30C-F876666F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0BD3-0B29-434B-96A7-F2E6B31E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75D2-6383-4C95-8BD4-539C22ED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7703-5C3F-4568-BDBF-5CBEC50B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D484-E151-4B5C-933C-8590A5F4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C4BB-BBA9-4EFE-937D-DC3BD124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A96D-1615-4A33-B85C-869B2942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E7E6-A14A-4CCD-B004-80826118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C40B-2C1C-411A-916D-52A70EA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6C7B-063D-4C10-AEDD-24CC82B7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58D-2ED4-4C39-A70F-3F4CE7D4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A2D5-319F-4EC3-B78E-6B3AD25F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3B3D-A9FD-42E6-A56B-AF9FD987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350E-3A5B-4489-9682-209F64F0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EC71-C474-4709-ADE6-DE923E5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2B75-C3B7-4F83-9CA2-21E2476B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E093-5173-49DD-ADE2-6E69BD8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ABBE3-C412-4E23-880D-BC03A540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7E29-BAB8-4F01-A7FF-67185B63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46CF-E3D4-4DDB-A48F-20168583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9F5-6595-4E11-B011-FA8C39C3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4A2-289F-4ABB-9382-ACACC11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36A-E1B4-4FBD-ABEC-1477A3A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F11-A742-4167-AF3F-ACAEB76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D15-F648-4455-9AE3-122B2746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2A7E2-51DF-44B9-A293-98FF4D78E380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05B91-DC46-4A9A-8FFE-83E7C163EAC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BB596-FDAD-49C6-93B1-910086992E87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87929-6D94-452E-B34C-A438AB4968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E636A-1D24-4142-A3A8-49DF21DAC710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60A11-48FF-437F-8E31-9B8D588DA8C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157BB-6CFC-469F-B2D6-E7771C51BFDD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C81EA-9B63-4DF2-ACAC-CC7B329F9D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VxacxShp3LY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0Yov6aCqt8w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ite101.com/content/why-overfishing-matters-a146870#ixzz1Da6WCvPq" TargetMode="External"/><Relationship Id="rId3" Type="http://schemas.openxmlformats.org/officeDocument/2006/relationships/hyperlink" Target="http://www.suite101.com/content/why-overfishing-matters-a146870#ixzz1Da6WCvPq" TargetMode="External"/><Relationship Id="rId4" Type="http://schemas.openxmlformats.org/officeDocument/2006/relationships/hyperlink" Target="http://www.suite101.com/content/why-overfishing-matters-a146870#ixzz1Da6WCvPq" TargetMode="External"/><Relationship Id="rId5" Type="http://schemas.openxmlformats.org/officeDocument/2006/relationships/hyperlink" Target="http://www.grinningplanet.com/2005/06-07/overfishing-article.htm" TargetMode="External"/><Relationship Id="rId6" Type="http://schemas.openxmlformats.org/officeDocument/2006/relationships/hyperlink" Target="http://www.grinningplanet.com/2005/06-07/overfishing-article.htm" TargetMode="External"/><Relationship Id="rId7" Type="http://schemas.openxmlformats.org/officeDocument/2006/relationships/hyperlink" Target="http://www.elcamino.edu/faculty/tnoyes/Readings/13CR.pdf" TargetMode="External"/><Relationship Id="rId8" Type="http://schemas.openxmlformats.org/officeDocument/2006/relationships/hyperlink" Target="http://www.elcamino.edu/faculty/tnoyes/Readings/13CR.pdf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835200"/>
            <a:ext cx="7858080" cy="1347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www.coral.org/files/images/800px-Nwhi_-_French_Frigate_Shoals_reef_-_many_fish.jpg"/>
          <p:cNvPicPr/>
          <p:nvPr/>
        </p:nvPicPr>
        <p:blipFill>
          <a:blip r:embed="rId3"/>
          <a:stretch/>
        </p:blipFill>
        <p:spPr>
          <a:xfrm>
            <a:off x="1447920" y="2438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Overfishing- the consequen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42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youtube.com/watch?v=VxacxShp3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1752480" y="2558880"/>
            <a:ext cx="5715000" cy="429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olutions for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70000" indent="-27000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ea typeface="ＭＳ Ｐゴシック"/>
                <a:hlinkClick r:id="rId2"/>
              </a:rPr>
              <a:t>http://www.youtube.com/watch?v=0Yov6aCqt8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gulation is needed to prevent or limit bottom trawling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imiting the number of days a haul can set off per month could also be extremely helpful in allowing fish stocks to recover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t educate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earn about the kind of fish you purch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pread the wor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270000" indent="-2700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2"/>
              </a:rPr>
              <a:t>Why Overfishing Matters-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3"/>
              </a:rPr>
              <a:t>Why Overfishing Matters: How Lost Ocean Life Affects the World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4"/>
              </a:rPr>
              <a:t>http://www.suite101.com/content/why-overfishing-matters-a146870#ixzz1Da6WCvPq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5"/>
              </a:rPr>
              <a:t>Overfishing-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6"/>
              </a:rPr>
              <a:t> http://www.grinningplanet.com/2005/06-07/overfishing-article.ht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7"/>
              </a:rPr>
              <a:t>Overfishing-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 Black"/>
                <a:hlinkClick r:id="rId8"/>
              </a:rPr>
              <a:t> http://www.elcamino.edu/faculty/tnoyes/Readings/13CR.pdf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lobal warming issues &amp; Human impact on the ocean-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divesitedirectory.com/global_warming_coral_effects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 fishing-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ypte.org.uk/environmental/over-fishing/29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Over fishing-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http://www.scribd.com/doc/6592367/Over-Fishin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overfishing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3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verfishing is taking so many fish from the ocean that there are not enough left to reproduce and replenish the popul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5" descr="http://assets.panda.org/img/overfish_img1_col2b_233392.jpg"/>
          <p:cNvPicPr/>
          <p:nvPr/>
        </p:nvPicPr>
        <p:blipFill>
          <a:blip r:embed="rId2"/>
          <a:stretch/>
        </p:blipFill>
        <p:spPr>
          <a:xfrm>
            <a:off x="457200" y="3556080"/>
            <a:ext cx="4572000" cy="2886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t1.gstatic.com/images?q=tbn:ANd9GcT41H3o2HBfmnxYaNQwsII2W2yBkKQ2TWtJFb7z0R0O1D35xBRMhQ&amp;t=1"/>
          <p:cNvPicPr/>
          <p:nvPr/>
        </p:nvPicPr>
        <p:blipFill>
          <a:blip r:embed="rId3"/>
          <a:stretch/>
        </p:blipFill>
        <p:spPr>
          <a:xfrm>
            <a:off x="5524560" y="3581280"/>
            <a:ext cx="316224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estructive fishing techniq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Huge fishing fleet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(when combined are two times larger than our earth can sustain) scoop up huge quantities of species at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se technology and even airplanes to find the fis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Bycatc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the capture of marine animals that are unwanted and are thrown back after capture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mally, most of the discards can be assumed not to surviv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auses of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numbers of fish species have been reduced by the use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igh-tech fishing equipment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ch a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actory ship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adar technology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ongline fish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ottom trawl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le and line metho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e of poi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last fishing/ use of explosiv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http://www.mareud.com/images_unknown/Horsun-01.jpg"/>
          <p:cNvPicPr/>
          <p:nvPr/>
        </p:nvPicPr>
        <p:blipFill>
          <a:blip r:embed="rId2"/>
          <a:stretch/>
        </p:blipFill>
        <p:spPr>
          <a:xfrm>
            <a:off x="144360" y="304920"/>
            <a:ext cx="404676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914400" y="2997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y 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http://x-journals.com/wp-content/uploads/2009/05/new-antarctic-seabed-sonar.jpg"/>
          <p:cNvPicPr/>
          <p:nvPr/>
        </p:nvPicPr>
        <p:blipFill>
          <a:blip r:embed="rId3"/>
          <a:stretch/>
        </p:blipFill>
        <p:spPr>
          <a:xfrm>
            <a:off x="4724280" y="304920"/>
            <a:ext cx="3810240" cy="3060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"/>
          <p:cNvSpPr/>
          <p:nvPr/>
        </p:nvSpPr>
        <p:spPr>
          <a:xfrm>
            <a:off x="5486400" y="3365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ar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0" descr="http://www.sustainablesushi.net/wp-content/uploads/2010/04/longline-fishing1.jpg"/>
          <p:cNvPicPr/>
          <p:nvPr/>
        </p:nvPicPr>
        <p:blipFill>
          <a:blip r:embed="rId4"/>
          <a:stretch/>
        </p:blipFill>
        <p:spPr>
          <a:xfrm>
            <a:off x="144360" y="3365640"/>
            <a:ext cx="4046760" cy="307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1"/>
          <p:cNvSpPr/>
          <p:nvPr/>
        </p:nvSpPr>
        <p:spPr>
          <a:xfrm>
            <a:off x="1066680" y="64436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line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12" descr="http://t2.gstatic.com/images?q=tbn:ANd9GcRjH64G0nQMoSFQH8gjwiXJAdDjs40mxCQO-coME0PhBX0Ii6Yf6A&amp;t=1"/>
          <p:cNvPicPr/>
          <p:nvPr/>
        </p:nvPicPr>
        <p:blipFill>
          <a:blip r:embed="rId5"/>
          <a:stretch/>
        </p:blipFill>
        <p:spPr>
          <a:xfrm>
            <a:off x="4419720" y="3735360"/>
            <a:ext cx="4467240" cy="2509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5715000" y="6259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tom traw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reenpeace.org/new-zealand/ReSizes/OriginalWatermarked/Global/new-zealand/P3/photos/oceans/2010/GP01PJV_layout.jpg"/>
          <p:cNvPicPr/>
          <p:nvPr/>
        </p:nvPicPr>
        <p:blipFill>
          <a:blip r:embed="rId2"/>
          <a:stretch/>
        </p:blipFill>
        <p:spPr>
          <a:xfrm>
            <a:off x="304920" y="152280"/>
            <a:ext cx="4740120" cy="28288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1295280" y="302724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 and line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3"/>
          <a:stretch/>
        </p:blipFill>
        <p:spPr>
          <a:xfrm>
            <a:off x="5248440" y="380880"/>
            <a:ext cx="3895560" cy="2934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"/>
          <p:cNvSpPr/>
          <p:nvPr/>
        </p:nvSpPr>
        <p:spPr>
          <a:xfrm>
            <a:off x="6019920" y="3314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4"/>
          <a:stretch/>
        </p:blipFill>
        <p:spPr>
          <a:xfrm>
            <a:off x="1295280" y="3397320"/>
            <a:ext cx="5045040" cy="31287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7"/>
          <p:cNvSpPr/>
          <p:nvPr/>
        </p:nvSpPr>
        <p:spPr>
          <a:xfrm>
            <a:off x="3048120" y="6477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st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y is overfishing a problem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724280" y="3733920"/>
            <a:ext cx="419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52% of fish stocks are fully 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20% are moderately 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17% are overexploi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7% are deple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1% is recovering from deple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457200" y="1905120"/>
            <a:ext cx="56386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∙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eans are at risk of collap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∙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isk of losing a valuable food sour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http://www.accu-techrchardware.com/sitebuilder/images/ocean_water_background_3-713x363.jpg"/>
          <p:cNvPicPr/>
          <p:nvPr/>
        </p:nvPicPr>
        <p:blipFill>
          <a:blip r:embed="rId2"/>
          <a:stretch/>
        </p:blipFill>
        <p:spPr>
          <a:xfrm>
            <a:off x="144360" y="3365640"/>
            <a:ext cx="4579920" cy="2330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http://www.hasonraja.co.uk/images/fish_food_photo_03.jpg"/>
          <p:cNvPicPr/>
          <p:nvPr/>
        </p:nvPicPr>
        <p:blipFill>
          <a:blip r:embed="rId3"/>
          <a:stretch/>
        </p:blipFill>
        <p:spPr>
          <a:xfrm>
            <a:off x="5854680" y="1447920"/>
            <a:ext cx="2832120" cy="21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ndangered fisheri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ome of the species most threatened by overfishing are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tlantic Halibu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onkfis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wordfis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ropical shrim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lue Fin Tun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ther animals not usually associated with the seafood industry are also affected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urtl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lphin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hal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ll shark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ffects of overfish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28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Overfishing disrupts the natural balance ecosystems attain over thousands of years of evolution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ntire food webs and chains can collap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t endangers the fish population which means our food supply is at risk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lnSpc>
                <a:spcPct val="6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57200" y="347508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89ca3"/>
                </a:solidFill>
                <a:latin typeface="Calibri"/>
              </a:rPr>
              <a:t>Why does this keep happening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45720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ecause of the high demand for fish, people are willing to pay a lot of money, so fishermen will do anything for their many customer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41:44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2-22T16:12:21Z</dcterms:modified>
  <cp:revision>58</cp:revision>
  <dc:subject/>
  <dc:title>overfishing</dc:title>
</cp:coreProperties>
</file>